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B80-A091-4FC0-A782-32631845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F18-B3CC-4C7F-A65C-E4BF658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A59-C963-43A6-AF0E-C9BD98E8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59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8748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31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59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8748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C77-7AB0-4841-A9A2-4E9061DA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42A-27D6-4F68-B70D-0EBED1BE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E26-C581-407C-A21A-B5BA09C0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EA2-2C19-4DC5-890D-B50FD22F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980-094C-4E4A-8A03-89ECFE9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B53-C0FA-4C7E-BD74-6ECADA3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99800" y="685800"/>
            <a:ext cx="77929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94C-9D20-4029-8A3A-D0C1C15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3DF-6CAD-4204-92A6-34961EC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FC9-8E2F-4320-A18E-AA87D5C8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5A47-5847-4BED-B01D-C206291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AFEC-2EF6-40C4-9AB2-61C2D38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C0BA-1486-4481-B523-40D267A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155-FFF7-4A30-A1AD-516DEF71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9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8748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31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9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8748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023E-7154-4223-B269-EF2316A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85A-B351-4A96-9F1F-448DE470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899-B886-4E07-A4EC-33B2C9B6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AB3-805D-401F-8D44-9F0B8F1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99800" y="685800"/>
            <a:ext cx="77929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641-84E2-40B8-9FD0-972E185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5FA-7C7C-4E33-B0CD-2FD390F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AF9-15B0-4BDF-9BE0-739C875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AAF-0A57-47BB-B67B-CA881F3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9460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49160" y="9460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90680" y="1368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0400" y="13683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12952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8380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2040" y="16286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36F1-731C-423D-83D3-C68C43610D6B}" type="slidenum"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174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8001000" y="76320"/>
            <a:ext cx="99072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828800"/>
            <a:ext cx="9009000" cy="1052640"/>
            <a:chOff x="0" y="182880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1936800"/>
              <a:ext cx="711360" cy="474840"/>
              <a:chOff x="290520" y="193680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19368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1936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359080"/>
              <a:ext cx="737640" cy="474840"/>
              <a:chOff x="414360" y="235908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3590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359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286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18288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2651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022-1D38-4343-AEAE-7E8182AD6929}" type="slidenum"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20840"/>
            <a:ext cx="8610480" cy="1042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Energy Aware Modeling Demo</a:t>
            </a:r>
            <a:endParaRPr b="0" lang="en-US" sz="40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ccellera SLDS-Rosetta Committe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formation and Telecommunication Technology Cente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University of Kansa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Adelaide Rosetta Project (TARP), Adelaide Universit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3960" y="2313000"/>
            <a:ext cx="8115120" cy="393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19240" y="2362320"/>
            <a:ext cx="114300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4840" y="205740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nent modeled for 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360" y="231300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70160" y="5867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DMA Receiver Block Modeled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48120" y="2438280"/>
            <a:ext cx="2797560" cy="2380320"/>
            <a:chOff x="3048120" y="2438280"/>
            <a:chExt cx="2797560" cy="2380320"/>
          </a:xfrm>
        </p:grpSpPr>
        <p:sp>
          <p:nvSpPr>
            <p:cNvPr id="201" name=""/>
            <p:cNvSpPr/>
            <p:nvPr/>
          </p:nvSpPr>
          <p:spPr>
            <a:xfrm>
              <a:off x="3952080" y="4114800"/>
              <a:ext cx="189360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 Resamp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438280"/>
              <a:ext cx="10666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8120" y="4495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he demo does…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5560" y="1981080"/>
            <a:ext cx="4462200" cy="398880"/>
            <a:chOff x="385560" y="1981080"/>
            <a:chExt cx="4462200" cy="398880"/>
          </a:xfrm>
        </p:grpSpPr>
        <p:sp>
          <p:nvSpPr>
            <p:cNvPr id="206" name=""/>
            <p:cNvSpPr/>
            <p:nvPr/>
          </p:nvSpPr>
          <p:spPr>
            <a:xfrm>
              <a:off x="385560" y="1981080"/>
              <a:ext cx="1666800" cy="3988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0480" y="1981080"/>
              <a:ext cx="2177280" cy="398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ampl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219320" y="2438280"/>
            <a:ext cx="1703160" cy="2354760"/>
            <a:chOff x="1219320" y="2438280"/>
            <a:chExt cx="1703160" cy="2354760"/>
          </a:xfrm>
        </p:grpSpPr>
        <p:sp>
          <p:nvSpPr>
            <p:cNvPr id="209" name=""/>
            <p:cNvSpPr/>
            <p:nvPr/>
          </p:nvSpPr>
          <p:spPr>
            <a:xfrm>
              <a:off x="1255680" y="4089240"/>
              <a:ext cx="166680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 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19320" y="2438280"/>
              <a:ext cx="30456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136880" y="2438280"/>
            <a:ext cx="1905840" cy="1313640"/>
            <a:chOff x="1136880" y="2438280"/>
            <a:chExt cx="1905840" cy="1313640"/>
          </a:xfrm>
        </p:grpSpPr>
        <p:sp>
          <p:nvSpPr>
            <p:cNvPr id="212" name=""/>
            <p:cNvSpPr/>
            <p:nvPr/>
          </p:nvSpPr>
          <p:spPr>
            <a:xfrm>
              <a:off x="1600200" y="2438280"/>
              <a:ext cx="228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6880" y="3048120"/>
              <a:ext cx="190584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OS 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124080" y="2438280"/>
            <a:ext cx="3074760" cy="1313640"/>
            <a:chOff x="3124080" y="2438280"/>
            <a:chExt cx="3074760" cy="1313640"/>
          </a:xfrm>
        </p:grpSpPr>
        <p:sp>
          <p:nvSpPr>
            <p:cNvPr id="215" name=""/>
            <p:cNvSpPr/>
            <p:nvPr/>
          </p:nvSpPr>
          <p:spPr>
            <a:xfrm>
              <a:off x="3951720" y="3048120"/>
              <a:ext cx="224712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OS Resamp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8480" y="2438280"/>
              <a:ext cx="228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408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52040" y="4965840"/>
            <a:ext cx="453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tart with power and Resampl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6800" y="5286240"/>
            <a:ext cx="27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rite CMOS powe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5360" y="559116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rive CMOS Resampler power model using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800" y="59403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rite software powe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5720" y="6276960"/>
            <a:ext cx="56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Derive software Resampler power model using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5480" y="1828800"/>
            <a:ext cx="35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wer models are deriv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derstanding the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ween technology an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904000" y="3048120"/>
            <a:ext cx="2359440" cy="1744920"/>
            <a:chOff x="5904000" y="3048120"/>
            <a:chExt cx="2359440" cy="1744920"/>
          </a:xfrm>
        </p:grpSpPr>
        <p:sp>
          <p:nvSpPr>
            <p:cNvPr id="225" name=""/>
            <p:cNvSpPr/>
            <p:nvPr/>
          </p:nvSpPr>
          <p:spPr>
            <a:xfrm>
              <a:off x="6747480" y="4089240"/>
              <a:ext cx="117144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04000" y="4444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2000" y="3048120"/>
              <a:ext cx="117144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8120" y="33782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644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rived Software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82800" y="4038120"/>
            <a:ext cx="456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erms generated to reflect software specific power calcul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"/>
          <p:cNvSpPr/>
          <p:nvPr/>
        </p:nvSpPr>
        <p:spPr>
          <a:xfrm>
            <a:off x="780120" y="2057400"/>
            <a:ext cx="657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power(Vcc :: design posreal is 3.3; leak :: 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 :: sequence(label)) 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+ -&gt; 0.4 * Vcc | - -&gt; 0.35 * Vcc | not -&gt; 0.27 * Vcc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-&gt; 0.1 * Vcc | =&gt; -&gt; 0.7 * Vcc | and -&gt; 0.3 * V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crete_proj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ity = calculateOpActivity(=, =&gt;, %, =, ', =&gt;,=, -, and, =, ', =, 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: p' = activity + leak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0040" y="4648320"/>
            <a:ext cx="1600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97360" y="1644480"/>
            <a:ext cx="7233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vector12::subtype(bitvector) is sel(x::bitvector | #x = 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MaxResampleRate(rate::integer)::integ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rat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-&gt; 6 | 8 -&gt; 6 | 7 -&gt; 8 | 12 -&gt; 5 | 13 -&gt; 3 | other -&gt;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ment_count(count,maximum::integer)::integ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count &gt;= maximum) then 0 else count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resampler(I,Q::in bitvector12;clk::in bit;modRate:: desig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nt,maximum::inte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discr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Max:maximum=getMaxResampleRate(modRa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count:(%clk) =&gt; (count' = increment_count(count,maximum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ample:(count = maximum - 1)=&gt; (Iresampled'=I) and (Qresampled' =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resa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 Model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1640" y="1771560"/>
            <a:ext cx="652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cmos_resampler(I,Q:: in bitvector12;clk::in bi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Rate:: i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k::design posreal) i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: DandP(resampler(I, Q, clk, modRate, Iresampled, Qresample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mos_power(lea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cmos_resampl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resampler(I,Q:: in bitvector12;clk::in b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Rate:: i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cc,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: DandP(resampler(I, Q, clk, modRate, Iresampled, Qresample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_power(Vcc, lea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resampl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/ System Interaction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9800" y="990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 Organiza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40" name=""/>
          <p:cNvSpPr/>
          <p:nvPr/>
        </p:nvSpPr>
        <p:spPr>
          <a:xfrm>
            <a:off x="43333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8280" y="2590920"/>
            <a:ext cx="4449960" cy="2120760"/>
            <a:chOff x="278280" y="2590920"/>
            <a:chExt cx="4449960" cy="2120760"/>
          </a:xfrm>
        </p:grpSpPr>
        <p:sp>
          <p:nvSpPr>
            <p:cNvPr id="242" name=""/>
            <p:cNvSpPr/>
            <p:nvPr/>
          </p:nvSpPr>
          <p:spPr>
            <a:xfrm>
              <a:off x="1585800" y="28954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66280" y="28954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5600" y="36576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iscrete-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94520" y="43434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inite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8280" y="365760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ntinuous-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78960" y="43434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2590920"/>
              <a:ext cx="68580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2590920"/>
              <a:ext cx="381240" cy="30456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371600" y="3276720"/>
              <a:ext cx="53352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3352680"/>
              <a:ext cx="0" cy="99072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048120" y="3276720"/>
              <a:ext cx="38088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3276720"/>
              <a:ext cx="228600" cy="99036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044360" y="4038480"/>
            <a:ext cx="4732200" cy="1602000"/>
            <a:chOff x="1044360" y="4038480"/>
            <a:chExt cx="4732200" cy="1602000"/>
          </a:xfrm>
        </p:grpSpPr>
        <p:sp>
          <p:nvSpPr>
            <p:cNvPr id="255" name=""/>
            <p:cNvSpPr/>
            <p:nvPr/>
          </p:nvSpPr>
          <p:spPr>
            <a:xfrm>
              <a:off x="1044360" y="52578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4880" y="52722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0880" y="5272200"/>
              <a:ext cx="21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equential-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371240" y="4724280"/>
              <a:ext cx="685800" cy="533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895120" y="4038480"/>
              <a:ext cx="228600" cy="1219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1120" y="4724280"/>
              <a:ext cx="380880" cy="609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412360" y="2057400"/>
            <a:ext cx="4609440" cy="520560"/>
            <a:chOff x="2412360" y="2057400"/>
            <a:chExt cx="4609440" cy="520560"/>
          </a:xfrm>
        </p:grpSpPr>
        <p:sp>
          <p:nvSpPr>
            <p:cNvPr id="262" name=""/>
            <p:cNvSpPr/>
            <p:nvPr/>
          </p:nvSpPr>
          <p:spPr>
            <a:xfrm>
              <a:off x="2412360" y="22096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f01"/>
                  </a:solidFill>
                  <a:latin typeface="Arial"/>
                </a:rPr>
                <a:t>state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50120" y="220968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f01"/>
                  </a:solidFill>
                  <a:latin typeface="Arial"/>
                </a:rPr>
                <a:t>signal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724200" y="2057400"/>
              <a:ext cx="609120" cy="228600"/>
            </a:xfrm>
            <a:prstGeom prst="line">
              <a:avLst/>
            </a:prstGeom>
            <a:ln cap="sq"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7200" y="2057400"/>
              <a:ext cx="532800" cy="228600"/>
            </a:xfrm>
            <a:prstGeom prst="line">
              <a:avLst/>
            </a:prstGeom>
            <a:ln cap="sq"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690680" y="2133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21480" y="35496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4080" y="502920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1337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8195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95288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6480" y="3200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7600" y="3200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181480" y="2666880"/>
            <a:ext cx="60984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2666880"/>
            <a:ext cx="7632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00760" y="52815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3581280"/>
            <a:ext cx="1447560" cy="1676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 Interaction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858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66280" y="2895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5600" y="36576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94520" y="4343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280" y="36576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8960" y="434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285640" y="2590920"/>
            <a:ext cx="68580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590920"/>
            <a:ext cx="381240" cy="3045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371600" y="3276720"/>
            <a:ext cx="53352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352680"/>
            <a:ext cx="0" cy="990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048120" y="3276720"/>
            <a:ext cx="38088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3276720"/>
            <a:ext cx="228600" cy="9903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436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04880" y="5272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20880" y="52722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371240" y="4724280"/>
            <a:ext cx="68580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95120" y="4038480"/>
            <a:ext cx="228600" cy="12193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4724280"/>
            <a:ext cx="380880" cy="6098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12720" y="2209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50480" y="22096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724200" y="2057400"/>
            <a:ext cx="60984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67200" y="2057400"/>
            <a:ext cx="53352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71600" y="220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1337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8195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95288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3200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57600" y="3200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181480" y="2666880"/>
            <a:ext cx="60984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2666880"/>
            <a:ext cx="7632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02200" y="52815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3581280"/>
            <a:ext cx="1447560" cy="1676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56720" y="32767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omomorph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19720" y="3657600"/>
            <a:ext cx="457200" cy="6094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4038480"/>
            <a:ext cx="228600" cy="3049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1219320" y="3962520"/>
            <a:ext cx="45720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057400" y="3809880"/>
            <a:ext cx="3808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3520" y="4267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f01"/>
                </a:solidFill>
                <a:latin typeface="Arial"/>
              </a:rPr>
              <a:t>Partial Morph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809880" y="3352680"/>
            <a:ext cx="76320" cy="91440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3962160" y="4724280"/>
            <a:ext cx="75960" cy="60984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24080" y="4724280"/>
            <a:ext cx="457200" cy="53352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cking Systems-Level Issue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23" name=""/>
          <p:cNvSpPr/>
          <p:nvPr/>
        </p:nvSpPr>
        <p:spPr>
          <a:xfrm>
            <a:off x="70765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290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09480" y="2895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58800" y="36576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37720" y="4343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21480" y="36576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22160" y="434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028840" y="2590920"/>
            <a:ext cx="6858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590920"/>
            <a:ext cx="38124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114800" y="3276720"/>
            <a:ext cx="5335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791320" y="3276720"/>
            <a:ext cx="3808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327672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756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48080" y="5272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64080" y="52722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6858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638320" y="4038480"/>
            <a:ext cx="22860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4724280"/>
            <a:ext cx="38088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55920" y="2209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467400" y="2057400"/>
            <a:ext cx="6098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495288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03848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962520" y="3962520"/>
            <a:ext cx="4572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800600" y="380988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39625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553080" y="3352680"/>
            <a:ext cx="763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705360" y="4724280"/>
            <a:ext cx="7596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67280" y="4724280"/>
            <a:ext cx="4572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266688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213372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6560" y="22096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647960" y="2362320"/>
            <a:ext cx="5331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428640" y="2590920"/>
            <a:ext cx="68580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361960" y="3276720"/>
            <a:ext cx="53316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26840" y="29098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inuous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9200" y="3657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-time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580920" y="3124080"/>
            <a:ext cx="76212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438280" y="3809880"/>
            <a:ext cx="60984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86320" y="43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quency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68400" y="4510080"/>
            <a:ext cx="6094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3962520"/>
            <a:ext cx="609480" cy="4572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5640" y="5257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F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200040" y="5410080"/>
            <a:ext cx="6094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655720" y="4724280"/>
            <a:ext cx="60984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setta and Systems Level Design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heterogeneity is critical to systems level desig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specific model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functional view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and require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level solutions can help address heterogeneity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between modeling domai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s and morphisms between mode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provides semantics and tools for integrating heterogeneous systems specificatio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udies and examples demonstrate effectiven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e Information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language inform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and Tools at http://www.sldl.or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tracking at http://bugzilla.ittc.ku.edu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standardiz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weekly teleconferen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slds-rosetta/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Dr. Perry Alexander alex@eda.or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even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s at FDL’02 and HDLCon’03 (tent.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 BoF Sess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 Rosetta Workshop following DAC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emonstration Goa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ddress a prototypical embedded system or subsyste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Write specifications of functional and constraint mode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monstration interaction between models from different semantic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monstrate prototypical analysis activiti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lected Target Syste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DMA communications subsystem common in embedded system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el functional and energy related require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960" y="2313000"/>
            <a:ext cx="8115120" cy="393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8680" y="19810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DMA Receiver Block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52520" y="1905120"/>
            <a:ext cx="8386560" cy="520200"/>
            <a:chOff x="452520" y="1905120"/>
            <a:chExt cx="8386560" cy="520200"/>
          </a:xfrm>
        </p:grpSpPr>
        <p:sp>
          <p:nvSpPr>
            <p:cNvPr id="110" name=""/>
            <p:cNvSpPr/>
            <p:nvPr/>
          </p:nvSpPr>
          <p:spPr>
            <a:xfrm>
              <a:off x="5041800" y="1905120"/>
              <a:ext cx="182880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MA Rosetta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1905120"/>
              <a:ext cx="16765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0280" y="1905120"/>
              <a:ext cx="182880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20" y="190512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efine facet model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dividual dom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0360" y="3276720"/>
            <a:ext cx="7244280" cy="685800"/>
            <a:chOff x="450360" y="3276720"/>
            <a:chExt cx="7244280" cy="685800"/>
          </a:xfrm>
        </p:grpSpPr>
        <p:sp>
          <p:nvSpPr>
            <p:cNvPr id="115" name=""/>
            <p:cNvSpPr/>
            <p:nvPr/>
          </p:nvSpPr>
          <p:spPr>
            <a:xfrm>
              <a:off x="4398120" y="3352680"/>
              <a:ext cx="1119600" cy="276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7840" y="3352680"/>
              <a:ext cx="1306800" cy="276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0360" y="3276720"/>
              <a:ext cx="304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bine interacting facet 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o represent 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5" idx="2"/>
              <a:endCxn id="119" idx="0"/>
            </p:cNvCxnSpPr>
            <p:nvPr/>
          </p:nvCxnSpPr>
          <p:spPr>
            <a:xfrm>
              <a:off x="4957560" y="3627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2"/>
              <a:endCxn id="121" idx="0"/>
            </p:cNvCxnSpPr>
            <p:nvPr/>
          </p:nvCxnSpPr>
          <p:spPr>
            <a:xfrm flipH="1">
              <a:off x="7039800" y="3627000"/>
              <a:ext cx="252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450360" y="3962520"/>
            <a:ext cx="7495920" cy="1219320"/>
            <a:chOff x="450360" y="3962520"/>
            <a:chExt cx="7495920" cy="1219320"/>
          </a:xfrm>
        </p:grpSpPr>
        <p:sp>
          <p:nvSpPr>
            <p:cNvPr id="123" name=""/>
            <p:cNvSpPr/>
            <p:nvPr/>
          </p:nvSpPr>
          <p:spPr>
            <a:xfrm>
              <a:off x="4146480" y="4572000"/>
              <a:ext cx="16225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33960" y="3962520"/>
              <a:ext cx="144756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6560" y="4572000"/>
              <a:ext cx="18097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6560" y="3962520"/>
              <a:ext cx="144792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0360" y="4191120"/>
              <a:ext cx="265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roject to analysis domain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upport predictive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19" idx="4"/>
              <a:endCxn id="123" idx="0"/>
            </p:cNvCxnSpPr>
            <p:nvPr/>
          </p:nvCxnSpPr>
          <p:spPr>
            <a:xfrm>
              <a:off x="4957560" y="43430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21" idx="4"/>
              <a:endCxn id="124" idx="0"/>
            </p:cNvCxnSpPr>
            <p:nvPr/>
          </p:nvCxnSpPr>
          <p:spPr>
            <a:xfrm>
              <a:off x="7040160" y="4343040"/>
              <a:ext cx="2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3" idx="2"/>
              <a:endCxn id="129" idx="0"/>
            </p:cNvCxnSpPr>
            <p:nvPr/>
          </p:nvCxnSpPr>
          <p:spPr>
            <a:xfrm>
              <a:off x="4957560" y="484668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2"/>
              <a:endCxn id="131" idx="0"/>
            </p:cNvCxnSpPr>
            <p:nvPr/>
          </p:nvCxnSpPr>
          <p:spPr>
            <a:xfrm flipH="1">
              <a:off x="7039800" y="4846680"/>
              <a:ext cx="252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447120" y="5702040"/>
            <a:ext cx="7246440" cy="990360"/>
            <a:chOff x="447120" y="5702040"/>
            <a:chExt cx="7246440" cy="990360"/>
          </a:xfrm>
        </p:grpSpPr>
        <p:sp>
          <p:nvSpPr>
            <p:cNvPr id="133" name=""/>
            <p:cNvSpPr/>
            <p:nvPr/>
          </p:nvSpPr>
          <p:spPr>
            <a:xfrm>
              <a:off x="4318560" y="6335640"/>
              <a:ext cx="3375000" cy="276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OOSE IMPLEMENTATION 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7120" y="6172200"/>
              <a:ext cx="314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de-off analysis is possible 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 the systems design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5"/>
              <a:endCxn id="133" idx="0"/>
            </p:cNvCxnSpPr>
            <p:nvPr/>
          </p:nvCxnSpPr>
          <p:spPr>
            <a:xfrm>
              <a:off x="5389200" y="5702040"/>
              <a:ext cx="61812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1" idx="3"/>
              <a:endCxn id="133" idx="0"/>
            </p:cNvCxnSpPr>
            <p:nvPr/>
          </p:nvCxnSpPr>
          <p:spPr>
            <a:xfrm flipH="1">
              <a:off x="6006600" y="5702040"/>
              <a:ext cx="60264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452160" y="2179800"/>
            <a:ext cx="7472520" cy="1173240"/>
            <a:chOff x="452160" y="2179800"/>
            <a:chExt cx="7472520" cy="1173240"/>
          </a:xfrm>
        </p:grpSpPr>
        <p:sp>
          <p:nvSpPr>
            <p:cNvPr id="138" name=""/>
            <p:cNvSpPr/>
            <p:nvPr/>
          </p:nvSpPr>
          <p:spPr>
            <a:xfrm>
              <a:off x="6583320" y="2629080"/>
              <a:ext cx="91440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0720" y="2629080"/>
              <a:ext cx="91440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11" idx="2"/>
              <a:endCxn id="139" idx="1"/>
            </p:cNvCxnSpPr>
            <p:nvPr/>
          </p:nvCxnSpPr>
          <p:spPr>
            <a:xfrm>
              <a:off x="4038480" y="2179800"/>
              <a:ext cx="5961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10" idx="2"/>
              <a:endCxn id="139" idx="7"/>
            </p:cNvCxnSpPr>
            <p:nvPr/>
          </p:nvCxnSpPr>
          <p:spPr>
            <a:xfrm flipH="1">
              <a:off x="5281200" y="2179800"/>
              <a:ext cx="6753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10" idx="2"/>
              <a:endCxn id="138" idx="1"/>
            </p:cNvCxnSpPr>
            <p:nvPr/>
          </p:nvCxnSpPr>
          <p:spPr>
            <a:xfrm>
              <a:off x="5955840" y="2179800"/>
              <a:ext cx="76140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12" idx="2"/>
              <a:endCxn id="138" idx="7"/>
            </p:cNvCxnSpPr>
            <p:nvPr/>
          </p:nvCxnSpPr>
          <p:spPr>
            <a:xfrm flipH="1">
              <a:off x="7364160" y="2179800"/>
              <a:ext cx="5608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9" idx="4"/>
              <a:endCxn id="115" idx="0"/>
            </p:cNvCxnSpPr>
            <p:nvPr/>
          </p:nvCxnSpPr>
          <p:spPr>
            <a:xfrm>
              <a:off x="4957560" y="3009960"/>
              <a:ext cx="10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8" idx="4"/>
              <a:endCxn id="116" idx="0"/>
            </p:cNvCxnSpPr>
            <p:nvPr/>
          </p:nvCxnSpPr>
          <p:spPr>
            <a:xfrm>
              <a:off x="7040160" y="3009960"/>
              <a:ext cx="25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452160" y="2606760"/>
              <a:ext cx="282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ractions define impact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esign on energy 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9280" y="5181480"/>
            <a:ext cx="7200720" cy="609840"/>
            <a:chOff x="449280" y="5181480"/>
            <a:chExt cx="7200720" cy="609840"/>
          </a:xfrm>
        </p:grpSpPr>
        <p:sp>
          <p:nvSpPr>
            <p:cNvPr id="129" name=""/>
            <p:cNvSpPr/>
            <p:nvPr/>
          </p:nvSpPr>
          <p:spPr>
            <a:xfrm>
              <a:off x="4348080" y="5181480"/>
              <a:ext cx="1219320" cy="609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1040" y="5181480"/>
              <a:ext cx="1218960" cy="609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280" y="5257800"/>
              <a:ext cx="317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nalysis using both simula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nalytic 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s Level Power Analysis Flow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ng the Interac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28800" y="2057400"/>
            <a:ext cx="5715000" cy="609480"/>
            <a:chOff x="1828800" y="2057400"/>
            <a:chExt cx="5715000" cy="609480"/>
          </a:xfrm>
        </p:grpSpPr>
        <p:sp>
          <p:nvSpPr>
            <p:cNvPr id="152" name=""/>
            <p:cNvSpPr/>
            <p:nvPr/>
          </p:nvSpPr>
          <p:spPr>
            <a:xfrm>
              <a:off x="1828800" y="2057400"/>
              <a:ext cx="14479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2057400"/>
              <a:ext cx="1905120" cy="6094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DMA 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52320" y="1981080"/>
            <a:ext cx="2210040" cy="381240"/>
            <a:chOff x="3352320" y="1981080"/>
            <a:chExt cx="2210040" cy="381240"/>
          </a:xfrm>
        </p:grpSpPr>
        <p:sp>
          <p:nvSpPr>
            <p:cNvPr id="155" name=""/>
            <p:cNvSpPr/>
            <p:nvPr/>
          </p:nvSpPr>
          <p:spPr>
            <a:xfrm flipH="1">
              <a:off x="3352320" y="236232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720" y="198108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te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2743200"/>
            <a:ext cx="4038480" cy="1295280"/>
            <a:chOff x="457200" y="2743200"/>
            <a:chExt cx="4038480" cy="1295280"/>
          </a:xfrm>
        </p:grpSpPr>
        <p:sp>
          <p:nvSpPr>
            <p:cNvPr id="158" name=""/>
            <p:cNvSpPr/>
            <p:nvPr/>
          </p:nvSpPr>
          <p:spPr>
            <a:xfrm>
              <a:off x="3048120" y="3429000"/>
              <a:ext cx="14475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W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3429000"/>
              <a:ext cx="152388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MOS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676520" y="2743200"/>
              <a:ext cx="1523880" cy="609480"/>
              <a:chOff x="1676520" y="2743200"/>
              <a:chExt cx="1523880" cy="60948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1676520" y="2743200"/>
                <a:ext cx="4572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71800" y="2743200"/>
                <a:ext cx="2286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81440" y="2819520"/>
                <a:ext cx="107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2057040" y="2590920"/>
            <a:ext cx="4586040" cy="990360"/>
            <a:chOff x="2057040" y="2590920"/>
            <a:chExt cx="4586040" cy="990360"/>
          </a:xfrm>
        </p:grpSpPr>
        <p:sp>
          <p:nvSpPr>
            <p:cNvPr id="165" name=""/>
            <p:cNvSpPr/>
            <p:nvPr/>
          </p:nvSpPr>
          <p:spPr>
            <a:xfrm flipH="1">
              <a:off x="2057040" y="2590920"/>
              <a:ext cx="3352680" cy="99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72000" y="2743200"/>
              <a:ext cx="990720" cy="762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2240" y="2971800"/>
              <a:ext cx="123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fe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47720" y="44798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efine functional and basic power doma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5720" y="4800600"/>
            <a:ext cx="45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Define interaction between function and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0680" y="5105520"/>
            <a:ext cx="67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fine technology specific power models by specializing power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" y="5454720"/>
            <a:ext cx="66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Infer interactions between function and new technology powe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7880" y="5791320"/>
            <a:ext cx="693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Perform trade-off studies at the systems level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echnology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that extends the basic power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6040" y="1905120"/>
            <a:ext cx="5290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ain pow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, nominal, leakage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ity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state_based_semantic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: p' = activity + leak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domain 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Domain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asic Model of Computation for power consump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ased on activity and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fines the power consumed by a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oes not specify the specifics of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352320" y="3580920"/>
            <a:ext cx="1676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733920" y="3047760"/>
            <a:ext cx="12952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905120"/>
            <a:ext cx="5715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cmos_power(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plus::posreal ; usage_minus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not::posreal; usage_equal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and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+" -&gt; 0.2 * usage_plus | "-" -&gt;  0.015 * usage_minus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not" -&gt;  0.01 * usage_not | "=" -&gt;  0.3 * usage_equal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=&gt;" -&gt; 0.04 * usage_equal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and" -&gt; 0.015 * usage_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cmos_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OS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xtends power domain to specialize for CMO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C remains state-bas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720" y="525780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962520" y="426708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981080"/>
            <a:ext cx="5257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power(Vcc,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+" -&gt; 0.4 * Vcc | "-" -&gt; 0.35 * Vcc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not" -&gt; 0.27 * Vcc | "=" -&gt; 0.1 * Vcc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=&gt;" -&gt; 0.7 * Vcc | "and" -&gt; 0.3 * V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tware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xtends power domain to specialize for softwar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C remains state-bas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57040" y="4419720"/>
            <a:ext cx="30481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572000" y="38862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19840" y="3276720"/>
            <a:ext cx="598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 DandP(f::discrete; g::power)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ete_to_power: reflect.meta_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g.activi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.calculateOpActivity(reflect.meta_getOperators(f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_to_discrete: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interaction Dand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/ Function Interaction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els interaction between a discrete state semantics and energy u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ojects new terms into the power model based on function perform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276720"/>
            <a:ext cx="3124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ergy use calculated in terms of operat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ergy use does not affect functional correc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880" y="3886200"/>
            <a:ext cx="10670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80920" y="4952520"/>
            <a:ext cx="22100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4:42:37Z</dcterms:created>
  <dc:creator>ckong</dc:creator>
  <dc:description/>
  <dc:language>en-US</dc:language>
  <cp:lastModifiedBy>Perry Alexander</cp:lastModifiedBy>
  <dcterms:modified xsi:type="dcterms:W3CDTF">2002-06-06T04:49:03Z</dcterms:modified>
  <cp:revision>57</cp:revision>
  <dc:subject/>
  <dc:title>No Slide Title</dc:title>
</cp:coreProperties>
</file>